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8F25-5CCF-42B8-A09E-7EAD208A4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57D0-855D-451A-9097-A975E4B04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3AA5-461D-437D-84FF-507F52F20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61C5-5905-4B9C-B56F-FC1EA7A74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7E86B-1097-4B43-A842-81ABAC9DB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D7AAF-9BF5-4306-A7E8-7AA5F0933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2B155-E6FD-4759-BB68-0E0824FCD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2887D-36B9-498C-BF1F-6B8A9C452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E4779-0E37-4512-BA80-AAB9F1057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57FDF-8109-4296-BDCE-31EEEFF08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9B2E7-283C-44F2-BCC7-10539F5A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11C2-0F95-4E21-81FB-C2B40F473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D04FE-2098-457B-B7D9-D9737985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991B6-F32F-4691-AFE5-D75D7951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F11A8-6200-40B2-9CB0-487723B36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A93B5-FDF9-4930-AF68-FF7A2AF6F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19B40-128C-433C-AEB3-35F397E5F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5E5E-5279-4428-B4BA-7B854893C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4B6F-EBEB-4ECB-9238-9D008D55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2776-C7F2-4180-8F49-574F4DF1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AAB1-C1CE-4DA7-B073-7EE1F636B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C369-8132-4BAE-A9A2-6CCB41BE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3078-10EB-44A1-9446-651421EF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7596-18F5-493D-9855-19BFC35A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4572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9144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13716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8288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2860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7432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2004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6576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41148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5720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0292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54864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9436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008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68580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3152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7724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2296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6868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grpSp>
            <p:nvGrpSpPr>
              <p:cNvPr id="21" name=""/>
              <p:cNvGrpSpPr/>
              <p:nvPr/>
            </p:nvGrpSpPr>
            <p:grpSpPr>
              <a:xfrm>
                <a:off x="0" y="533520"/>
                <a:ext cx="9144000" cy="5943600"/>
                <a:chOff x="0" y="533520"/>
                <a:chExt cx="9144000" cy="5943600"/>
              </a:xfrm>
            </p:grpSpPr>
            <p:sp>
              <p:nvSpPr>
                <p:cNvPr id="22" name=""/>
                <p:cNvSpPr/>
                <p:nvPr/>
              </p:nvSpPr>
              <p:spPr>
                <a:xfrm>
                  <a:off x="0" y="533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990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1447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0" y="1905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0" y="2362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0" y="2819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0" y="3276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0" y="3733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0" y="4191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0" y="4648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0" y="5105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0" y="5562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0" y="6019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0" y="6477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</p:grpSp>
        <p:grpSp>
          <p:nvGrpSpPr>
            <p:cNvPr id="36" name=""/>
            <p:cNvGrpSpPr/>
            <p:nvPr/>
          </p:nvGrpSpPr>
          <p:grpSpPr>
            <a:xfrm>
              <a:off x="609480" y="6248160"/>
              <a:ext cx="7925040" cy="609480"/>
              <a:chOff x="609480" y="6248160"/>
              <a:chExt cx="7925040" cy="609480"/>
            </a:xfrm>
          </p:grpSpPr>
          <p:sp>
            <p:nvSpPr>
              <p:cNvPr id="37" name=""/>
              <p:cNvSpPr/>
              <p:nvPr/>
            </p:nvSpPr>
            <p:spPr>
              <a:xfrm flipV="1" rot="16200000">
                <a:off x="7248600" y="5549040"/>
                <a:ext cx="587160" cy="1984320"/>
              </a:xfrm>
              <a:custGeom>
                <a:avLst/>
                <a:gdLst/>
                <a:ahLst/>
                <a:rect l="l" t="t" r="r" b="b"/>
                <a:pathLst>
                  <a:path w="290" h="1250">
                    <a:moveTo>
                      <a:pt x="0" y="2"/>
                    </a:moveTo>
                    <a:cubicBezTo>
                      <a:pt x="0" y="2"/>
                      <a:pt x="120" y="2"/>
                      <a:pt x="240" y="2"/>
                    </a:cubicBezTo>
                    <a:cubicBezTo>
                      <a:pt x="262" y="0"/>
                      <a:pt x="290" y="12"/>
                      <a:pt x="288" y="50"/>
                    </a:cubicBezTo>
                    <a:cubicBezTo>
                      <a:pt x="288" y="626"/>
                      <a:pt x="288" y="1202"/>
                      <a:pt x="288" y="1202"/>
                    </a:cubicBezTo>
                    <a:cubicBezTo>
                      <a:pt x="288" y="1232"/>
                      <a:pt x="274" y="1250"/>
                      <a:pt x="240" y="1250"/>
                    </a:cubicBezTo>
                    <a:cubicBezTo>
                      <a:pt x="120" y="1250"/>
                      <a:pt x="0" y="1250"/>
                      <a:pt x="0" y="1250"/>
                    </a:cubicBez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76f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flipV="1" rot="16200000">
                <a:off x="7507080" y="5841000"/>
                <a:ext cx="50760" cy="19814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flipV="1" rot="16200000">
                <a:off x="1315800" y="5549040"/>
                <a:ext cx="587160" cy="1984680"/>
              </a:xfrm>
              <a:custGeom>
                <a:avLst/>
                <a:gdLst/>
                <a:ahLst/>
                <a:rect l="l" t="t" r="r" b="b"/>
                <a:pathLst>
                  <a:path w="290" h="1250">
                    <a:moveTo>
                      <a:pt x="0" y="2"/>
                    </a:moveTo>
                    <a:cubicBezTo>
                      <a:pt x="0" y="2"/>
                      <a:pt x="120" y="2"/>
                      <a:pt x="240" y="2"/>
                    </a:cubicBezTo>
                    <a:cubicBezTo>
                      <a:pt x="262" y="0"/>
                      <a:pt x="290" y="12"/>
                      <a:pt x="288" y="50"/>
                    </a:cubicBezTo>
                    <a:cubicBezTo>
                      <a:pt x="288" y="626"/>
                      <a:pt x="288" y="1202"/>
                      <a:pt x="288" y="1202"/>
                    </a:cubicBezTo>
                    <a:cubicBezTo>
                      <a:pt x="288" y="1232"/>
                      <a:pt x="274" y="1250"/>
                      <a:pt x="240" y="1250"/>
                    </a:cubicBezTo>
                    <a:cubicBezTo>
                      <a:pt x="120" y="1250"/>
                      <a:pt x="0" y="1250"/>
                      <a:pt x="0" y="1250"/>
                    </a:cubicBez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76f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flipV="1" rot="16200000">
                <a:off x="1574640" y="5841000"/>
                <a:ext cx="50760" cy="198144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flipV="1" rot="16200000">
                <a:off x="4283640" y="5099040"/>
                <a:ext cx="587160" cy="2884680"/>
              </a:xfrm>
              <a:custGeom>
                <a:avLst/>
                <a:gdLst/>
                <a:ahLst/>
                <a:rect l="l" t="t" r="r" b="b"/>
                <a:pathLst>
                  <a:path w="290" h="1250">
                    <a:moveTo>
                      <a:pt x="0" y="2"/>
                    </a:moveTo>
                    <a:cubicBezTo>
                      <a:pt x="0" y="2"/>
                      <a:pt x="120" y="2"/>
                      <a:pt x="240" y="2"/>
                    </a:cubicBezTo>
                    <a:cubicBezTo>
                      <a:pt x="262" y="0"/>
                      <a:pt x="290" y="12"/>
                      <a:pt x="288" y="50"/>
                    </a:cubicBezTo>
                    <a:cubicBezTo>
                      <a:pt x="288" y="626"/>
                      <a:pt x="288" y="1202"/>
                      <a:pt x="288" y="1202"/>
                    </a:cubicBezTo>
                    <a:cubicBezTo>
                      <a:pt x="288" y="1232"/>
                      <a:pt x="274" y="1250"/>
                      <a:pt x="240" y="1250"/>
                    </a:cubicBezTo>
                    <a:cubicBezTo>
                      <a:pt x="120" y="1250"/>
                      <a:pt x="0" y="1250"/>
                      <a:pt x="0" y="1250"/>
                    </a:cubicBez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76f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flipV="1" rot="16200000">
                <a:off x="4538520" y="5391720"/>
                <a:ext cx="50760" cy="28800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grpSp>
        <p:nvGrpSpPr>
          <p:cNvPr id="43" name=""/>
          <p:cNvGrpSpPr/>
          <p:nvPr/>
        </p:nvGrpSpPr>
        <p:grpSpPr>
          <a:xfrm>
            <a:off x="0" y="0"/>
            <a:ext cx="9144000" cy="236520"/>
            <a:chOff x="0" y="0"/>
            <a:chExt cx="9144000" cy="236520"/>
          </a:xfrm>
        </p:grpSpPr>
        <p:pic>
          <p:nvPicPr>
            <p:cNvPr id="44" name="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9144000" cy="1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0" y="146160"/>
              <a:ext cx="9144000" cy="475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189000"/>
              <a:ext cx="9144000" cy="47520"/>
            </a:xfrm>
            <a:prstGeom prst="rect">
              <a:avLst/>
            </a:prstGeom>
            <a:solidFill>
              <a:srgbClr val="476f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545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-1713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69920" indent="-164880">
              <a:spcBef>
                <a:spcPts val="799"/>
              </a:spcBef>
              <a:buClr>
                <a:srgbClr val="99cc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685800" y="6283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99cccc"/>
                </a:solidFill>
                <a:latin typeface="Arial Narro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cc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2"/>
          </p:nvPr>
        </p:nvSpPr>
        <p:spPr>
          <a:xfrm>
            <a:off x="3124080" y="6283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99cccc"/>
                </a:solidFill>
                <a:latin typeface="Arial Narrow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cc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3"/>
          </p:nvPr>
        </p:nvSpPr>
        <p:spPr>
          <a:xfrm>
            <a:off x="6553080" y="6283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99cccc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3A75E-7274-407C-8079-8D0A524361CE}" type="slidenum">
              <a:rPr b="0" lang="de-DE" sz="1400" spc="-1" strike="noStrike">
                <a:solidFill>
                  <a:srgbClr val="99cccc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9" name=""/>
            <p:cNvSpPr/>
            <p:nvPr/>
          </p:nvSpPr>
          <p:spPr>
            <a:xfrm flipV="1">
              <a:off x="4572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9144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13716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18288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22860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27432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2004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6576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41148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45720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50292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54864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59436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64008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68580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73152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77724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82296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86868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380880"/>
              <a:ext cx="9144000" cy="5943600"/>
              <a:chOff x="0" y="380880"/>
              <a:chExt cx="9144000" cy="5943600"/>
            </a:xfrm>
          </p:grpSpPr>
          <p:sp>
            <p:nvSpPr>
              <p:cNvPr id="109" name=""/>
              <p:cNvSpPr/>
              <p:nvPr/>
            </p:nvSpPr>
            <p:spPr>
              <a:xfrm>
                <a:off x="0" y="63244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58672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4100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49528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4956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0384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35812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1240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26668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2096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17524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12952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8380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3808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123" name=""/>
          <p:cNvSpPr/>
          <p:nvPr/>
        </p:nvSpPr>
        <p:spPr>
          <a:xfrm>
            <a:off x="0" y="1676520"/>
            <a:ext cx="9144000" cy="152280"/>
          </a:xfrm>
          <a:prstGeom prst="rect">
            <a:avLst/>
          </a:prstGeom>
          <a:solidFill>
            <a:srgbClr val="476f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"/>
          <p:cNvSpPr/>
          <p:nvPr/>
        </p:nvSpPr>
        <p:spPr>
          <a:xfrm rot="5400000">
            <a:off x="3787920" y="-1245240"/>
            <a:ext cx="1595520" cy="7591320"/>
          </a:xfrm>
          <a:custGeom>
            <a:avLst/>
            <a:gdLst/>
            <a:ahLst/>
            <a:rect l="l" t="t" r="r" b="b"/>
            <a:pathLst>
              <a:path w="290" h="1250">
                <a:moveTo>
                  <a:pt x="0" y="2"/>
                </a:moveTo>
                <a:cubicBezTo>
                  <a:pt x="0" y="2"/>
                  <a:pt x="120" y="2"/>
                  <a:pt x="240" y="2"/>
                </a:cubicBezTo>
                <a:cubicBezTo>
                  <a:pt x="262" y="0"/>
                  <a:pt x="290" y="12"/>
                  <a:pt x="288" y="50"/>
                </a:cubicBezTo>
                <a:cubicBezTo>
                  <a:pt x="288" y="626"/>
                  <a:pt x="288" y="1202"/>
                  <a:pt x="288" y="1202"/>
                </a:cubicBezTo>
                <a:cubicBezTo>
                  <a:pt x="288" y="1232"/>
                  <a:pt x="274" y="1250"/>
                  <a:pt x="240" y="1250"/>
                </a:cubicBezTo>
                <a:cubicBezTo>
                  <a:pt x="120" y="1250"/>
                  <a:pt x="0" y="1250"/>
                  <a:pt x="0" y="1250"/>
                </a:cubicBezTo>
                <a:lnTo>
                  <a:pt x="0" y="2"/>
                </a:lnTo>
                <a:close/>
              </a:path>
            </a:pathLst>
          </a:custGeom>
          <a:solidFill>
            <a:srgbClr val="476f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1600200"/>
            <a:ext cx="9144000" cy="152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-3240" y="1752480"/>
            <a:ext cx="9147240" cy="74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545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1D4F4-170C-45C0-A2DE-B63BFC179DFD}" type="slidenum">
              <a:rPr b="0" lang="de-DE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1676520"/>
            <a:ext cx="86104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400" spc="-1" strike="noStrike">
                <a:solidFill>
                  <a:srgbClr val="000000"/>
                </a:solidFill>
                <a:latin typeface="ISOCTEUR"/>
              </a:rPr>
              <a:t>W le donne</a:t>
            </a:r>
            <a:endParaRPr b="0" lang="en-US" sz="5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0" y="2043000"/>
            <a:ext cx="45720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117880" y="1886040"/>
            <a:ext cx="183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205740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ISOCTEUR"/>
              </a:rPr>
              <a:t>Mouse per donna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75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Mouse%20donna" descr=""/>
          <p:cNvPicPr/>
          <p:nvPr/>
        </p:nvPicPr>
        <p:blipFill>
          <a:blip r:embed="rId1"/>
          <a:stretch/>
        </p:blipFill>
        <p:spPr>
          <a:xfrm>
            <a:off x="990720" y="774720"/>
            <a:ext cx="7086600" cy="53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117880" y="1886040"/>
            <a:ext cx="183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20574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ISOCTEUR"/>
              </a:rPr>
              <a:t>Mouse per donna lavoratric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75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Mouse%20per%20donne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117880" y="1886040"/>
            <a:ext cx="183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20574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ISOCTEUR"/>
              </a:rPr>
              <a:t>A cosa serve un computer?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" dur="75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Computer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117880" y="1886040"/>
            <a:ext cx="183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2057400"/>
            <a:ext cx="807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ISOCTEUR"/>
              </a:rPr>
              <a:t>Telecomando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" dur="75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Remote" descr=""/>
          <p:cNvPicPr/>
          <p:nvPr/>
        </p:nvPicPr>
        <p:blipFill>
          <a:blip r:embed="rId1"/>
          <a:stretch/>
        </p:blipFill>
        <p:spPr>
          <a:xfrm>
            <a:off x="2095560" y="209520"/>
            <a:ext cx="4952880" cy="603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117880" y="1886040"/>
            <a:ext cx="183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20574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ISOCTEUR"/>
              </a:rPr>
              <a:t>Come mette il casco una donna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75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Donna%20in%20scooter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836640" y="2771640"/>
            <a:ext cx="755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ISOCTEUR"/>
              </a:rPr>
              <a:t>Come stampano le donn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117880" y="1886040"/>
            <a:ext cx="183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20574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ISOCTEUR"/>
              </a:rPr>
              <a:t>Moto per donna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" dur="75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moto-woman" descr=""/>
          <p:cNvPicPr/>
          <p:nvPr/>
        </p:nvPicPr>
        <p:blipFill>
          <a:blip r:embed="rId1"/>
          <a:stretch/>
        </p:blipFill>
        <p:spPr>
          <a:xfrm>
            <a:off x="2514600" y="380880"/>
            <a:ext cx="40482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117880" y="1886040"/>
            <a:ext cx="183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20574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ISOCTEUR"/>
              </a:rPr>
              <a:t>Chi ha parcheggiato?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" dur="75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Donna%20al%20volante1" descr=""/>
          <p:cNvPicPr/>
          <p:nvPr/>
        </p:nvPicPr>
        <p:blipFill>
          <a:blip r:embed="rId1"/>
          <a:stretch/>
        </p:blipFill>
        <p:spPr>
          <a:xfrm>
            <a:off x="914400" y="1028880"/>
            <a:ext cx="739152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117880" y="1886040"/>
            <a:ext cx="183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0574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ISOCTEUR"/>
              </a:rPr>
              <a:t>Signora! Non avevo finito!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" dur="75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Donna%20al%20volante" descr=""/>
          <p:cNvPicPr/>
          <p:nvPr/>
        </p:nvPicPr>
        <p:blipFill>
          <a:blip r:embed="rId1"/>
          <a:stretch/>
        </p:blipFill>
        <p:spPr>
          <a:xfrm>
            <a:off x="507960" y="469800"/>
            <a:ext cx="8128080" cy="591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117880" y="1886040"/>
            <a:ext cx="183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20574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ISOCTEUR"/>
              </a:rPr>
              <a:t>Concludendo...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" dur="75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ozzo" descr=""/>
          <p:cNvPicPr/>
          <p:nvPr/>
        </p:nvPicPr>
        <p:blipFill>
          <a:blip r:embed="rId1"/>
          <a:stretch/>
        </p:blipFill>
        <p:spPr>
          <a:xfrm>
            <a:off x="533520" y="331920"/>
            <a:ext cx="8076960" cy="61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comestampanoledonne" descr=""/>
          <p:cNvPicPr/>
          <p:nvPr/>
        </p:nvPicPr>
        <p:blipFill>
          <a:blip r:embed="rId1"/>
          <a:stretch/>
        </p:blipFill>
        <p:spPr>
          <a:xfrm>
            <a:off x="1066680" y="884160"/>
            <a:ext cx="7239240" cy="528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52280" y="2847960"/>
            <a:ext cx="9061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ISOCTEUR"/>
              </a:rPr>
              <a:t>Microsoft Word per donn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worddonne" descr=""/>
          <p:cNvPicPr/>
          <p:nvPr/>
        </p:nvPicPr>
        <p:blipFill>
          <a:blip r:embed="rId1"/>
          <a:stretch/>
        </p:blipFill>
        <p:spPr>
          <a:xfrm>
            <a:off x="800280" y="1251000"/>
            <a:ext cx="7543800" cy="43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29242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ISOCTEUR"/>
              </a:rPr>
              <a:t>Microsoft Excel per donn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Excel" descr=""/>
          <p:cNvPicPr/>
          <p:nvPr/>
        </p:nvPicPr>
        <p:blipFill>
          <a:blip r:embed="rId1"/>
          <a:stretch/>
        </p:blipFill>
        <p:spPr>
          <a:xfrm>
            <a:off x="2590920" y="380880"/>
            <a:ext cx="4025880" cy="579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117880" y="1886040"/>
            <a:ext cx="183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05740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ISOCTEUR"/>
              </a:rPr>
              <a:t>iMac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75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mac" descr=""/>
          <p:cNvPicPr/>
          <p:nvPr/>
        </p:nvPicPr>
        <p:blipFill>
          <a:blip r:embed="rId1"/>
          <a:stretch/>
        </p:blipFill>
        <p:spPr>
          <a:xfrm>
            <a:off x="457200" y="1471680"/>
            <a:ext cx="8305920" cy="3951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7T13:49:11Z</dcterms:created>
  <dc:creator>-</dc:creator>
  <dc:description/>
  <dc:language>en-US</dc:language>
  <cp:lastModifiedBy>gs00824</cp:lastModifiedBy>
  <dcterms:modified xsi:type="dcterms:W3CDTF">2003-09-29T08:07:06Z</dcterms:modified>
  <cp:revision>15</cp:revision>
  <dc:subject/>
  <dc:title>PowerPoint-Präsentation</dc:title>
</cp:coreProperties>
</file>