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A037-A54F-4B71-A196-BE039A81D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330A-403A-409B-9135-AE8C744C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CA82-A1A0-4BA8-8279-B48B1AED8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8EFC-3DF6-44AC-A86A-E02E461B5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304F-4FBF-438A-B14C-D3DB327C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F09D-BB8B-43FA-A501-EA89FFFD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31D1-AA13-42F4-9CC1-7E7E5BBC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E71B-5187-4E62-A15F-C1A87105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A404-0975-4D3F-9642-3493AB23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B72E-B5BA-4EE9-89FF-2F11E5B4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F743-54E1-4310-A487-003CC46B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1064-476B-42BB-94B9-1ACA6768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E224-055A-46AD-AB16-7D23925A2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289548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Comic Sans MS"/>
              </a:rPr>
              <a:t>Cristo è Risorto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60948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200" spc="-1" strike="noStrike">
                <a:solidFill>
                  <a:srgbClr val="ff3300"/>
                </a:solidFill>
                <a:latin typeface="Comic Sans MS"/>
              </a:rPr>
              <a:t>Xristòs Vaskrès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67652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200" spc="-1" strike="noStrike">
                <a:solidFill>
                  <a:srgbClr val="ff3300"/>
                </a:solidFill>
                <a:latin typeface="Comic Sans MS"/>
                <a:ea typeface="Arial"/>
              </a:rPr>
              <a:t>Vaistinù vaskrès</a:t>
            </a:r>
            <a:r>
              <a:rPr b="1" lang="it-IT" sz="7200" spc="-1" strike="noStrike">
                <a:solidFill>
                  <a:srgbClr val="ff3300"/>
                </a:solidFill>
                <a:latin typeface="Comic Sans MS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03848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Comic Sans MS"/>
              </a:rPr>
              <a:t>È veramente Risorto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14300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28600" y="2438280"/>
            <a:ext cx="8915400" cy="12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BUONA  PASQUA </a:t>
            </a:r>
            <a:endParaRPr b="0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09680" y="3505320"/>
            <a:ext cx="4572000" cy="88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...nel Signore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438280" y="4572000"/>
            <a:ext cx="4114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da Eugenio Marrone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5334120"/>
            <a:ext cx="351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omic Sans MS"/>
              </a:rPr>
              <a:t>eugenio@marrone.vr.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6019920"/>
            <a:ext cx="5105520" cy="600120"/>
          </a:xfrm>
          <a:custGeom>
            <a:avLst/>
            <a:gdLst>
              <a:gd name="textAreaLeft" fmla="*/ 637920 w 5105520"/>
              <a:gd name="textAreaRight" fmla="*/ 4467600 w 5105520"/>
              <a:gd name="textAreaTop" fmla="*/ 84600 h 600120"/>
              <a:gd name="textAreaBottom" fmla="*/ 600480 h 6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763" stAng="16200000" swAng="5400000"/>
                <a:lnTo>
                  <a:pt x="5400" y="3050"/>
                </a:lnTo>
                <a:lnTo>
                  <a:pt x="16200" y="3050"/>
                </a:lnTo>
                <a:lnTo>
                  <a:pt x="16200" y="763"/>
                </a:lnTo>
                <a:arcTo wR="675" hR="763" stAng="10800000" swAng="5400000"/>
                <a:lnTo>
                  <a:pt x="21600" y="0"/>
                </a:lnTo>
                <a:lnTo>
                  <a:pt x="18900" y="9275"/>
                </a:lnTo>
                <a:lnTo>
                  <a:pt x="21600" y="18550"/>
                </a:lnTo>
                <a:lnTo>
                  <a:pt x="18900" y="18550"/>
                </a:lnTo>
                <a:lnTo>
                  <a:pt x="18900" y="20838"/>
                </a:lnTo>
                <a:arcTo wR="675" hR="763" stAng="0" swAng="5400000"/>
                <a:lnTo>
                  <a:pt x="3375" y="21600"/>
                </a:lnTo>
                <a:arcTo wR="675" hR="763" stAng="5400000" swAng="5400000"/>
                <a:lnTo>
                  <a:pt x="2700" y="18550"/>
                </a:lnTo>
                <a:lnTo>
                  <a:pt x="0" y="18550"/>
                </a:lnTo>
                <a:lnTo>
                  <a:pt x="2700" y="9275"/>
                </a:lnTo>
                <a:close/>
              </a:path>
              <a:path fill="none" w="21600" h="21600">
                <a:moveTo>
                  <a:pt x="5400" y="763"/>
                </a:moveTo>
                <a:arcTo wR="675" hR="763" stAng="0" swAng="5400000"/>
                <a:lnTo>
                  <a:pt x="3375" y="1525"/>
                </a:lnTo>
                <a:arcTo wR="675" hR="763" stAng="16200000" swAng="-5400000"/>
                <a:arcTo wR="675" hR="763" stAng="10800000" swAng="-5400000"/>
                <a:lnTo>
                  <a:pt x="5400" y="3050"/>
                </a:lnTo>
              </a:path>
              <a:path fill="none" w="21600" h="21600">
                <a:moveTo>
                  <a:pt x="16200" y="763"/>
                </a:moveTo>
                <a:arcTo wR="675" hR="763" stAng="10800000" swAng="-5400000"/>
                <a:lnTo>
                  <a:pt x="18225" y="1525"/>
                </a:lnTo>
                <a:arcTo wR="675" hR="763" stAng="16200000" swAng="5400000"/>
                <a:arcTo wR="675" hR="763" stAng="0" swAng="5400000"/>
                <a:lnTo>
                  <a:pt x="16200" y="3050"/>
                </a:lnTo>
              </a:path>
              <a:path fill="none" w="21600" h="21600">
                <a:moveTo>
                  <a:pt x="2700" y="2288"/>
                </a:moveTo>
                <a:lnTo>
                  <a:pt x="2700" y="18550"/>
                </a:lnTo>
              </a:path>
              <a:path fill="none" w="21600" h="21600">
                <a:moveTo>
                  <a:pt x="18900" y="2288"/>
                </a:moveTo>
                <a:lnTo>
                  <a:pt x="18900" y="1855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ffcc66"/>
                </a:solidFill>
                <a:latin typeface="Times New Roman"/>
              </a:rPr>
              <a:t>elaborato da Eugen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23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Poiché l'amore del Cristo ci spinge, al pensiero che uno è morto per tutti       e quindi tutti sono morti. Ed egli è morto per tutti, perché quelli che vivono  non vivano più per se stessi, ma per colui che è morto e risuscitato per lo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Cosicché ormai noi non conosciamo più nessuno secondo la carne; e anche se abbiamo conosciuto Cristo secondo la carne, ora non lo conosciamo più così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Quindi se uno è in Cristo, è una creatura nuova;                                   le cose vecchie sono passate, ecco ne sono nate di nuove. 2Corinzi 5,14-17)</a:t>
            </a: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5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Risurrezione%20di%20Gesù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70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4920" y="304920"/>
            <a:ext cx="754380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Ma l'angelo disse alle donne:                              «Non abbiate paura, voi! So che cercate Gesù il crocifisso. Non è qui. È risorto, come aveva detto;                     venite a vedere il luogo dove era depo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Presto, andate a dire ai suoi discepoli:                      È risuscitato dai morti, e ora vi precede in Galilea;        là lo vedrete. Ecco, io ve l'ho detto». (Mt. 28,5-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6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cc00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Gesù%20risorto" descr=""/>
          <p:cNvPicPr/>
          <p:nvPr/>
        </p:nvPicPr>
        <p:blipFill>
          <a:blip r:embed="rId1"/>
          <a:stretch/>
        </p:blipFill>
        <p:spPr>
          <a:xfrm>
            <a:off x="4359240" y="0"/>
            <a:ext cx="47847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838080"/>
            <a:ext cx="4343400" cy="53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Se infatti i morti non risorgono, neanche Cristo è risor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ma se Cristo non è risorto, è vana la vostra fede e voi siete ancora nei vostri pecca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E anche quelli che sono morti in Cristo sono perdu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Se poi noi abbiamo avuto speranza in Cristo soltanto in questa vita, siamo da compiangere più di tutti gli uomin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Ora, invece, Cristo è risuscitato dai morti, primizia di coloro che sono morti. (1 Cor. 15,16-2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1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cc9900"/>
            </a:gs>
            <a:gs pos="100000">
              <a:srgbClr val="ff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isurrezione%20di%20Gesù-Beato%20Angelico" descr=""/>
          <p:cNvPicPr/>
          <p:nvPr/>
        </p:nvPicPr>
        <p:blipFill>
          <a:blip r:embed="rId1"/>
          <a:stretch/>
        </p:blipFill>
        <p:spPr>
          <a:xfrm>
            <a:off x="0" y="0"/>
            <a:ext cx="51786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257800" y="990720"/>
            <a:ext cx="3886200" cy="48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Ed essi si dissero l'un l'altro: «Non ci ardeva forse il cuore nel petto mentre conversava con noi lungo il cammino, quando ci spiegava le Scritture?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E partirono senz'indugio e fecero ritorno a Gerusalemme, dove trovarono riuniti gli Undici e gli altri che erano con loro,            i quali dicevano: «Davvero il Signore è risorto ed è apparso a Simone».         (Lc. 24,32-34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1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685800"/>
            <a:ext cx="8610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Ecco la Buona notizia:                            un uomo è tornato VIVO dal cimitero;          un uomo ha sconfitto per sempre la morte,     ci ha riaperto la via del Cielo                   che era stata chiusa da un altro uomo, Adamo; ha riconciliato noi peccatori al Padre.         Per noi ora sboccia una vita nuova.            Non importa cosa eravamo prima.           Cristo ha lavato tutti i nostri peccati           sul legno della Croce.                                 Ora, se lo vogliamo,                             possiamo essere creature nuo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4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bucanev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715000" y="3745080"/>
            <a:ext cx="3429000" cy="33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Capite? Il passato non esiste più, la nostra vita sboccia da ora, nuova,  da risorti, da redenti, in Cristo nostra Pasqua. Anche se il nostro passato ci giudica, siamo chiamati a guardare a Cristo senza paura, ad affidarci a Lui, a ricominciare certi che Cristo ha pagato per noi il debito a Dio Pad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62120" y="1371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2587680"/>
            <a:ext cx="762012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Comic Sans MS"/>
              </a:rPr>
              <a:t>Le acque del male, della prova, del dolore,   ci avvolgeranno ancora,                        ma non ci soffocheranno più,                perché da oggi sappiamo con certezza       che nella nostra barca c’è Gesù Risorto,      e anche se a volte sembrerò che dorma,      è lì, presente, con no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Comic Sans MS"/>
              </a:rPr>
              <a:t>Chi ci potrà separare dall’Amore di D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9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" y="68580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00"/>
                </a:solidFill>
                <a:latin typeface="Comic Sans MS"/>
              </a:rPr>
              <a:t>Se dunque siete risorti con Cristo,                 cercate le cose di lassù,                                dove si trova Cristo assiso alla destra di Dio;  pensate alle cose di lassù, non a quelle della terra. Voi infatti siete morti e la vostra vita                      è ormai nascosta con Cristo in Dio! (Col. 3,1-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9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Trinità6ri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04920" y="1143000"/>
            <a:ext cx="86104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Cristo è ormai assiso alla destra del Padr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è andato a prepararci un pos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là dove nessuno potrà più toccarc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E’ stato fatto Kyrios, Sign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con potere su tutto e su tut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Che questa certezza ci accompagni da oggi, sempr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in questo cammino terreno…incontro al Pad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5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0T17:31:40Z</dcterms:created>
  <dc:creator>Marrone</dc:creator>
  <dc:description/>
  <dc:language>en-US</dc:language>
  <cp:lastModifiedBy>Marrone</cp:lastModifiedBy>
  <dcterms:modified xsi:type="dcterms:W3CDTF">2004-04-11T11:01:41Z</dcterms:modified>
  <cp:revision>7</cp:revision>
  <dc:subject/>
  <dc:title>Presentazione di PowerPoint</dc:title>
</cp:coreProperties>
</file>