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DEE-6192-4C4E-A238-E6455C9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3C1-2F6C-44FA-977E-923F5B37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F39-7A7C-43A7-B0D0-B7991368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EFB-9588-4C7E-9B5F-6A1F2A2F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F45-DB33-4BB4-B26A-4D438490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611-A36D-4B3B-8D6A-A2A93234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0D7-8BCD-4718-A338-C5FF581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1EA-5A01-4559-BCFC-8A91CAD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03B-A22B-4A5C-836B-85541D0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0C7-4C5B-4140-82F5-8EB64C7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3E8-97D4-420A-9F82-F18CDC8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F15-589D-4265-8BE2-0117857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FDBA-21F0-490E-8A09-B57F0CDBF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2590920"/>
            <a:ext cx="899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Perchè gli uomini muoiono più giovan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WALLIS_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ALLIS_2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ALLIS_3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ALLIS_4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5:48:39Z</dcterms:created>
  <dc:creator/>
  <dc:description/>
  <dc:language>en-US</dc:language>
  <cp:lastModifiedBy>Whirlpool</cp:lastModifiedBy>
  <dcterms:modified xsi:type="dcterms:W3CDTF">2000-01-11T10:14:31Z</dcterms:modified>
  <cp:revision>2</cp:revision>
  <dc:subject/>
  <dc:title>Ei dian otsikkoa</dc:title>
</cp:coreProperties>
</file>