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027-B1C9-4D17-9894-A5425DD2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59F-7F1D-4701-B477-8DE60AD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0DE-AD67-4F0A-97C1-23E62558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98C-1779-463D-8964-C4DDCF89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64A-1D95-4EB1-BAD8-DE5115CA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127-0ED2-4079-AE3A-46AD7BC7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A96-9152-4E81-BE09-8A76465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B45-04E6-4017-AC71-58CF4BC7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24C-C02C-459A-AC10-0243B06B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815-D98F-4DC7-BF72-A3678559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2B5-5DCB-4170-A18A-1B3A6DD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BF0-8433-4A35-B8C6-B24BB89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2C5-AF2B-49C1-8C23-C4930F90C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1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2819520"/>
            <a:ext cx="2089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14 – 19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28600"/>
            <a:ext cx="28191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quali anni si è svolta la prima guerra mondi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3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0"/>
            <a:ext cx="1905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40 - 19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419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in che periodo si è combattuto nella secon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5" descr=""/>
          <p:cNvPicPr/>
          <p:nvPr/>
        </p:nvPicPr>
        <p:blipFill>
          <a:blip r:embed="rId1"/>
          <a:stretch/>
        </p:blipFill>
        <p:spPr>
          <a:xfrm>
            <a:off x="2133720" y="0"/>
            <a:ext cx="5284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6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02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09480"/>
            <a:ext cx="28958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iacerebbe farmi fare un pompino da 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7" descr=""/>
          <p:cNvPicPr/>
          <p:nvPr/>
        </p:nvPicPr>
        <p:blipFill>
          <a:blip r:embed="rId1"/>
          <a:stretch/>
        </p:blipFill>
        <p:spPr>
          <a:xfrm>
            <a:off x="2133720" y="0"/>
            <a:ext cx="5284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152280"/>
            <a:ext cx="1838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 ha detto questo?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8" descr="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772400" y="5791320"/>
            <a:ext cx="1295280" cy="99036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76320"/>
            <a:ext cx="1066680" cy="9903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10:48:51Z</dcterms:created>
  <dc:creator>www.pegli3.com</dc:creator>
  <dc:description/>
  <dc:language>en-US</dc:language>
  <cp:lastModifiedBy>Antonio Severin</cp:lastModifiedBy>
  <dcterms:modified xsi:type="dcterms:W3CDTF">2003-05-05T13:45:17Z</dcterms:modified>
  <cp:revision>29</cp:revision>
  <dc:subject/>
  <dc:title>PowerPoint-presentatie</dc:title>
</cp:coreProperties>
</file>