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93F-2AD8-4F64-8C31-0F1644DE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88A-98FA-4F63-9316-B0DF14E8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0C8-0D4F-48C0-95D0-5260662C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29F-2708-463D-84CD-2BB790FD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625B-87A0-45F1-AF58-EA724C56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9D17-57A2-4821-BCC1-1C987C3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9B2-D554-471F-8FDB-2DE9858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EDB-0970-4832-93C8-81F8BAF1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0046-E100-41EA-AD78-0A36FE75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AE4-A1FB-4C5C-9591-5230B77F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3C55-639B-463F-9D49-8E27AC4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654-89D4-4F86-8B2C-21BEA01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9031-00F7-45A8-9B7A-788D462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0CFE-AB69-47C0-8627-12A6287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22F-0424-4EBF-A42D-6E14BAE8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85F-D8F3-458F-B8B5-65997FF0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3B56-96A1-47CF-9276-E00C7D76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28F-126B-4E52-AD4A-EC2226D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717-7412-4EBF-9C8D-70B3A1B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5E7-B327-40FA-A227-CE548EA6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D53-F87E-4B22-A783-A567E50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65B-EC33-4FC1-8C25-6F46828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463-744B-4CAB-8BD1-089E963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5AB-47CF-49CD-9F64-136A6EF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gratisandgratis.com/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ABA9-2353-4AAA-93AA-FDF2DA33AF0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43880" y="6267600"/>
            <a:ext cx="240012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 Narrow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E12-0847-4607-8E95-2DA3844880F9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39625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45472"/>
                </a:solidFill>
                <a:latin typeface="ISOCTEUR"/>
              </a:rPr>
              <a:t>Ecco la classifica dell‘edizione 2006-2007 : </a:t>
            </a:r>
            <a:endParaRPr b="0" lang="en-US" sz="32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76520"/>
            <a:ext cx="8610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545472"/>
                </a:solidFill>
                <a:latin typeface="ISOCTEUR"/>
              </a:rPr>
              <a:t>626-La sicurezza nel lavoro</a:t>
            </a:r>
            <a:endParaRPr b="0" lang="en-US" sz="54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373400" y="251460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9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297080" y="251460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8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655560"/>
            <a:ext cx="77724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259092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7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39116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251460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6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220760" y="259092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5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9880" y="259092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13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373400" y="259092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4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920" y="674640"/>
            <a:ext cx="83055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220760" y="251460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3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-85680" y="9360"/>
            <a:ext cx="9315360" cy="683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144800" y="2590920"/>
            <a:ext cx="658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2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919160" y="533520"/>
            <a:ext cx="50263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05740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Infine il vincitore...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28800" y="114480"/>
            <a:ext cx="48960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205740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Laurea ad Honorem...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96080" cy="51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38080" y="1523880"/>
            <a:ext cx="6416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Menzione speciale della Giuria...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28600" y="179280"/>
            <a:ext cx="731520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2209680"/>
            <a:ext cx="5943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Il non plus ultra...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046840" cy="6400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39880" y="259092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12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24080" y="28440"/>
            <a:ext cx="2743200" cy="6829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2160" y="266688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11°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320" y="212760"/>
            <a:ext cx="6629400" cy="6505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9880" y="2743200"/>
            <a:ext cx="74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545472"/>
                </a:solidFill>
                <a:latin typeface="ISOCTEUR"/>
              </a:rPr>
              <a:t>10° classificato</a:t>
            </a:r>
            <a:endParaRPr b="0" lang="en-US" sz="6000" spc="-1" strike="noStrike">
              <a:solidFill>
                <a:srgbClr val="545472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557280"/>
            <a:ext cx="8381880" cy="564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/>
  <dc:description>www.carloneworld.it</dc:description>
  <dc:language>en-US</dc:language>
  <cp:lastModifiedBy>Gianni</cp:lastModifiedBy>
  <dcterms:modified xsi:type="dcterms:W3CDTF">2008-03-21T17:19:14Z</dcterms:modified>
  <cp:revision>20</cp:revision>
  <dc:subject>www.carloneworld.it</dc:subject>
  <dc:title>PowerPoint-Präsentation</dc:title>
</cp:coreProperties>
</file>